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2F1-8B5B-45F9-88DE-0C803376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0B2-A03B-4B51-BD0E-19A1459E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42D-1C14-4B0D-B4BC-4908EB14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3EF-D32E-4552-91AE-1A2D403D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45CF-F9EA-4214-AC18-CEADC6DF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46D-DDFD-4785-82AA-F551977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4B3F-B0F1-4F37-93DA-25391CEA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041-69AB-48A3-A9A1-1F00F47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5CB5-0DBC-41DF-A0B5-7C98819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889-0E87-40A5-99C5-983C7D9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98E6-9A8C-4F40-BCF1-C5318B5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E5A-46F8-4FCD-A1E9-7B32B6D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02C-DDC3-400B-8AD2-50064D89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760A-55D4-435D-BBD5-3C7F58F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A20-1C43-4C27-941E-B4A8E57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8A57-8D95-457D-8363-2DA87F41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7A2C-1EB8-400A-BE2E-E5C5DB19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BE9-B56B-4783-B8A8-1ECDFDE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D0E-7552-4C5A-91F5-30BBD2A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2A0-F97B-4237-9989-5780044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ACB-A169-4629-A4DC-6082951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C1D-BAC8-497A-B7D7-9E0333A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75F-FA05-49C4-83C4-16BFA5C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EB7-1AFB-4857-978C-920F03D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E1C-8B3E-4648-8E36-32EEE5738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E311-ACCE-46B7-BD2F-D4A3417C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ing Visuals for Instr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al Technology 1 (Educ 21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lanie Jeane C. Galve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 Program, SS&amp;E Division, Ad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828800" y="4419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urved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Gives a feeling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3581280" y="2895480"/>
            <a:ext cx="3962520" cy="914400"/>
          </a:xfrm>
          <a:custGeom>
            <a:avLst/>
            <a:gdLst>
              <a:gd name="textAreaLeft" fmla="*/ 718920 w 3962520"/>
              <a:gd name="textAreaRight" fmla="*/ 2652840 w 39625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41" hR="21600" stAng="10800000" swAng="5400000"/>
                <a:lnTo>
                  <a:pt x="10541" y="0"/>
                </a:lnTo>
                <a:arcTo wR="7841" hR="21600" stAng="-5400000" swAng="2745253"/>
                <a:lnTo>
                  <a:pt x="21152" y="14400"/>
                </a:lnTo>
                <a:lnTo>
                  <a:pt x="17031" y="21600"/>
                </a:lnTo>
                <a:lnTo>
                  <a:pt x="12014" y="14400"/>
                </a:lnTo>
                <a:lnTo>
                  <a:pt x="15233" y="14400"/>
                </a:lnTo>
                <a:arcTo wR="7841" hR="21600" stAng="-2654747" swAng="-2527428"/>
                <a:lnTo>
                  <a:pt x="9191" y="323"/>
                </a:lnTo>
                <a:arcTo wR="7841" hR="21600" stAng="-5617825" swAng="-5182175"/>
                <a:close/>
              </a:path>
              <a:path fill="darkenLess" w="21600" h="21600">
                <a:moveTo>
                  <a:pt x="0" y="21600"/>
                </a:moveTo>
                <a:arcTo wR="7841" hR="21600" stAng="10800000" swAng="5400000"/>
                <a:lnTo>
                  <a:pt x="7841" y="0"/>
                </a:lnTo>
                <a:arcTo wR="7841" hR="21600" stAng="-5400000" swAng="217825"/>
                <a:lnTo>
                  <a:pt x="9191" y="323"/>
                </a:lnTo>
                <a:arcTo wR="7841" hR="21600" stAng="-5617825" swAng="-518217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572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rast (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ze, shape, color, orientation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lends empha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8" descr="j0300524"/>
          <p:cNvPicPr/>
          <p:nvPr/>
        </p:nvPicPr>
        <p:blipFill>
          <a:blip r:embed="rId1"/>
          <a:stretch/>
        </p:blipFill>
        <p:spPr>
          <a:xfrm>
            <a:off x="4495680" y="2286000"/>
            <a:ext cx="4267440" cy="3583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0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ymmetric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(Formal Balanc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equivalence of elements on each side of the vis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j0217698"/>
          <p:cNvPicPr/>
          <p:nvPr/>
        </p:nvPicPr>
        <p:blipFill>
          <a:blip r:embed="rId1"/>
          <a:stretch/>
        </p:blipFill>
        <p:spPr>
          <a:xfrm>
            <a:off x="4876920" y="2514600"/>
            <a:ext cx="3504960" cy="3397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a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Asymetric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Informal Bal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rough equivalence of weights among elements to show dynamism and inte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j0234504"/>
          <p:cNvPicPr/>
          <p:nvPr/>
        </p:nvPicPr>
        <p:blipFill>
          <a:blip r:embed="rId1"/>
          <a:stretch/>
        </p:blipFill>
        <p:spPr>
          <a:xfrm>
            <a:off x="4800600" y="2286000"/>
            <a:ext cx="3554280" cy="3363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s real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empha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s an emotional t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Viol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cool”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sychologically seem to recede from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ran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“hot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pproach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highlights help make the objects leap to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2514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mul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n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4876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swee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ed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Comic Sans MS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sme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ark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evoke masculine images of ear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ld, sil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prestige &amp; 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lor judiciously not to lose harm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nalogous (close to each other) colors on the color whe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tering should be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harmoni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nate letterings adapt to aesthetic or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motivational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 letterings (</a:t>
            </a:r>
            <a:r>
              <a:rPr b="1" lang="en-US" sz="3200" spc="-1" strike="noStrike">
                <a:solidFill>
                  <a:srgbClr val="0000cc"/>
                </a:solidFill>
                <a:latin typeface="Century Gothic"/>
              </a:rPr>
              <a:t>goth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com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san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for informational or instructional purpo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ercase letters with capitals = (only when needed)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most leg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 headlines may be in all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CAPIT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ning the lay-o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8954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rran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 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 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16224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Maxim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mpha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Fide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Graphic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mo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962520" y="3276720"/>
            <a:ext cx="838080" cy="7617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 of lettering should contrast with background color for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legibilit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empha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(rules to rememb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-</a:t>
            </a:r>
            <a:r>
              <a:rPr b="1" lang="en-US" sz="4500" spc="-1" strike="noStrike">
                <a:solidFill>
                  <a:srgbClr val="0000cc"/>
                </a:solidFill>
                <a:latin typeface="Comic Sans MS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h high = eight feet of viewer di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One inch hig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een by the last student at the last row of a 35-feet-long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Spac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judge distance by experience stressing an “optical” even and regular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ture viewers att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of geometric shapes as framework to build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495600" y="3962520"/>
            <a:ext cx="153360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1028880" y="3733920"/>
            <a:ext cx="1752480" cy="1676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907240" y="3772080"/>
            <a:ext cx="1779480" cy="1485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the “rule of thirds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33920" y="3505320"/>
            <a:ext cx="9144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562720" y="411480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5627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6483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7339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648320" y="4114800"/>
            <a:ext cx="914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733920" y="411480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48320" y="350532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5562720" y="350532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489320" y="29718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st domina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57909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937200" y="411480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c 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s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048120" y="3352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trict display to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gle id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vertising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Unique selling pos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52120" y="373356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orizont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Gives a feeling of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ility and 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2514600" y="2895480"/>
            <a:ext cx="4495680" cy="486000"/>
          </a:xfrm>
          <a:prstGeom prst="rightArrow">
            <a:avLst>
              <a:gd name="adj1" fmla="val 50000"/>
              <a:gd name="adj2" fmla="val 231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752480" y="411480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Implies str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4648320" y="2057400"/>
            <a:ext cx="914400" cy="1981080"/>
          </a:xfrm>
          <a:prstGeom prst="upArrow">
            <a:avLst>
              <a:gd name="adj1" fmla="val 50000"/>
              <a:gd name="adj2" fmla="val 541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752480" y="411480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agon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Shows movement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 and 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 flipV="1">
            <a:off x="2971800" y="2590560"/>
            <a:ext cx="350532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8800" y="4419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rossed Diagonal Li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Show movement,  action and 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6"/>
          <p:cNvSpPr/>
          <p:nvPr/>
        </p:nvSpPr>
        <p:spPr>
          <a:xfrm flipV="1">
            <a:off x="3505320" y="2209320"/>
            <a:ext cx="350496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8"/>
          <p:cNvSpPr/>
          <p:nvPr/>
        </p:nvSpPr>
        <p:spPr>
          <a:xfrm flipH="1" flipV="1">
            <a:off x="3886200" y="2057400"/>
            <a:ext cx="2819520" cy="1905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2:09:14Z</dcterms:created>
  <dc:creator>Melanie Jeane C. Galvez</dc:creator>
  <dc:description/>
  <dc:language>en-US</dc:language>
  <cp:lastModifiedBy>User</cp:lastModifiedBy>
  <dcterms:modified xsi:type="dcterms:W3CDTF">2011-08-15T23:45:52Z</dcterms:modified>
  <cp:revision>5</cp:revision>
  <dc:subject/>
  <dc:title>Desining Visuals for Instruction</dc:title>
</cp:coreProperties>
</file>